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0C0C0-3CE7-45A0-A984-9A8F015C60F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DCD15E-4DCD-47F2-AF60-5A34F42D78A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7D5C-5242-4020-B0A5-A76DA630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29C4-71E5-40FA-BED3-D848CBA4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E087-2C0E-42AB-ADDE-6BD81F50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860C-4A77-4962-892B-C879D1FE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4F72-A97E-4364-A615-5ACC2F18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5039-D15E-4128-B506-2B754773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3D4A-5AA8-4F95-B0BD-720BF04F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CBAC-68BE-4A7D-8287-9C0CF729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6C10-B0FE-46FC-9592-DDA51EE6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C344-6537-41B1-855F-5F9A825D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6690-6B5D-47D7-8D1D-627688F9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8026-44E7-4F5D-B51E-CA8C9F2D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3B670-08ED-4ADA-8CE0-4CDCB75881F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6" descr="http://www.dzsyxx.com/UploadFiles/JXZY/2008/11/200811151626537016.jpg"/>
          <p:cNvPicPr/>
          <p:nvPr/>
        </p:nvPicPr>
        <p:blipFill>
          <a:blip r:embed="rId1"/>
          <a:stretch/>
        </p:blipFill>
        <p:spPr>
          <a:xfrm>
            <a:off x="2459160" y="2111400"/>
            <a:ext cx="4302000" cy="347508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2162160" y="905040"/>
            <a:ext cx="4819680" cy="1180800"/>
            <a:chOff x="2162160" y="905040"/>
            <a:chExt cx="4819680" cy="1180800"/>
          </a:xfrm>
        </p:grpSpPr>
        <p:sp>
          <p:nvSpPr>
            <p:cNvPr id="65" name="Text Box 2"/>
            <p:cNvSpPr/>
            <p:nvPr/>
          </p:nvSpPr>
          <p:spPr>
            <a:xfrm>
              <a:off x="3421080" y="1011240"/>
              <a:ext cx="356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小摄影师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2162160" y="905040"/>
              <a:ext cx="1180800" cy="1180800"/>
              <a:chOff x="2162160" y="905040"/>
              <a:chExt cx="1180800" cy="118080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216216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238500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6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内容占位符 2"/>
          <p:cNvSpPr/>
          <p:nvPr/>
        </p:nvSpPr>
        <p:spPr>
          <a:xfrm>
            <a:off x="804960" y="1222200"/>
            <a:ext cx="764532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男孩哭着跑出去，高尔基是怎么做的？体现了高尔基的什么品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"/>
          <p:cNvSpPr/>
          <p:nvPr/>
        </p:nvSpPr>
        <p:spPr>
          <a:xfrm>
            <a:off x="984240" y="2722680"/>
            <a:ext cx="72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高尔基赶紧站起来，走到窗口，并大声喊道：“孩子，回来！我给你胶卷，我这儿有很多胶卷。”体现了高尔基关怀爱护青少年的品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内容占位符 2"/>
          <p:cNvSpPr/>
          <p:nvPr/>
        </p:nvSpPr>
        <p:spPr>
          <a:xfrm>
            <a:off x="790560" y="1590840"/>
            <a:ext cx="764532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高尔基接待一个小男孩而不接待采访他的记者，说明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1"/>
          <p:cNvSpPr/>
          <p:nvPr/>
        </p:nvSpPr>
        <p:spPr>
          <a:xfrm>
            <a:off x="1098720" y="2924280"/>
            <a:ext cx="72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53172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说明高尔基对媒体宣传自己并不关心，却关心着下一代的健康成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247920" y="279360"/>
            <a:ext cx="2648160" cy="695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00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01" name="圆角矩形 1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文本框 26"/>
          <p:cNvSpPr/>
          <p:nvPr/>
        </p:nvSpPr>
        <p:spPr>
          <a:xfrm>
            <a:off x="1137960" y="223452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小摄影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1"/>
          <p:cNvSpPr/>
          <p:nvPr/>
        </p:nvSpPr>
        <p:spPr>
          <a:xfrm>
            <a:off x="2223360" y="2168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小男孩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左大括号 32"/>
          <p:cNvSpPr/>
          <p:nvPr/>
        </p:nvSpPr>
        <p:spPr>
          <a:xfrm>
            <a:off x="1866960" y="2219400"/>
            <a:ext cx="101520" cy="2657520"/>
          </a:xfrm>
          <a:custGeom>
            <a:avLst/>
            <a:gdLst>
              <a:gd name="textAreaLeft" fmla="*/ 64800 w 101520"/>
              <a:gd name="textAreaRight" fmla="*/ 101880 w 101520"/>
              <a:gd name="textAreaTop" fmla="*/ 2520 h 2657520"/>
              <a:gd name="textAreaBottom" fmla="*/ 2655000 h 265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"/>
                  <a:pt x="10800" y="69"/>
                </a:cubicBezTo>
                <a:lnTo>
                  <a:pt x="10800" y="10731"/>
                </a:lnTo>
                <a:cubicBezTo>
                  <a:pt x="10800" y="10766"/>
                  <a:pt x="5400" y="10800"/>
                  <a:pt x="0" y="10800"/>
                </a:cubicBezTo>
                <a:cubicBezTo>
                  <a:pt x="5400" y="10800"/>
                  <a:pt x="10800" y="10835"/>
                  <a:pt x="10800" y="10869"/>
                </a:cubicBezTo>
                <a:lnTo>
                  <a:pt x="10800" y="21531"/>
                </a:lnTo>
                <a:cubicBezTo>
                  <a:pt x="10800" y="2156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33"/>
          <p:cNvSpPr/>
          <p:nvPr/>
        </p:nvSpPr>
        <p:spPr>
          <a:xfrm>
            <a:off x="3306600" y="2084400"/>
            <a:ext cx="13528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7120" indent="-1527120">
              <a:lnSpc>
                <a:spcPts val="4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扔纸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1"/>
          <p:cNvSpPr/>
          <p:nvPr/>
        </p:nvSpPr>
        <p:spPr>
          <a:xfrm>
            <a:off x="2270880" y="4357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高尔基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右箭头 35"/>
          <p:cNvSpPr/>
          <p:nvPr/>
        </p:nvSpPr>
        <p:spPr>
          <a:xfrm>
            <a:off x="3448080" y="2914560"/>
            <a:ext cx="700200" cy="327240"/>
          </a:xfrm>
          <a:prstGeom prst="rightArrow">
            <a:avLst>
              <a:gd name="adj1" fmla="val 50000"/>
              <a:gd name="adj2" fmla="val 49976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36"/>
          <p:cNvSpPr/>
          <p:nvPr/>
        </p:nvSpPr>
        <p:spPr>
          <a:xfrm>
            <a:off x="4192560" y="2800440"/>
            <a:ext cx="29131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7120" indent="-1527120">
              <a:lnSpc>
                <a:spcPts val="4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热爱、尊敬高尔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直接箭头连接符 37"/>
          <p:cNvCxnSpPr/>
          <p:nvPr/>
        </p:nvCxnSpPr>
        <p:spPr>
          <a:xfrm>
            <a:off x="2486160" y="2717640"/>
            <a:ext cx="11520" cy="152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矩形 38"/>
          <p:cNvSpPr/>
          <p:nvPr/>
        </p:nvSpPr>
        <p:spPr>
          <a:xfrm>
            <a:off x="2473200" y="3294000"/>
            <a:ext cx="9716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7120" indent="-1527120">
              <a:lnSpc>
                <a:spcPts val="4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拍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右箭头 39"/>
          <p:cNvSpPr/>
          <p:nvPr/>
        </p:nvSpPr>
        <p:spPr>
          <a:xfrm>
            <a:off x="3487680" y="5089680"/>
            <a:ext cx="700200" cy="328320"/>
          </a:xfrm>
          <a:prstGeom prst="rightArrow">
            <a:avLst>
              <a:gd name="adj1" fmla="val 50000"/>
              <a:gd name="adj2" fmla="val 50049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40"/>
          <p:cNvSpPr/>
          <p:nvPr/>
        </p:nvSpPr>
        <p:spPr>
          <a:xfrm>
            <a:off x="4330800" y="4960800"/>
            <a:ext cx="28969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7120" indent="-1527120">
              <a:lnSpc>
                <a:spcPts val="4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关心、爱护小男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41"/>
          <p:cNvSpPr/>
          <p:nvPr/>
        </p:nvSpPr>
        <p:spPr>
          <a:xfrm>
            <a:off x="4370400" y="2168640"/>
            <a:ext cx="31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仔细打量、吩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内容占位符 2"/>
          <p:cNvSpPr/>
          <p:nvPr/>
        </p:nvSpPr>
        <p:spPr>
          <a:xfrm>
            <a:off x="982800" y="2384280"/>
            <a:ext cx="741672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通过写高尔基在工作繁忙的情况下，特许一个小男孩进他的办公室为他照相的事，赞扬了高尔基对青少年的关怀和爱护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18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9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1"/>
          <p:cNvSpPr/>
          <p:nvPr/>
        </p:nvSpPr>
        <p:spPr>
          <a:xfrm>
            <a:off x="885960" y="1866960"/>
            <a:ext cx="768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积累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几个描写天气的词语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图片 24" descr="花盆.png"/>
          <p:cNvPicPr/>
          <p:nvPr/>
        </p:nvPicPr>
        <p:blipFill>
          <a:blip r:embed="rId1"/>
          <a:stretch/>
        </p:blipFill>
        <p:spPr>
          <a:xfrm>
            <a:off x="642960" y="198108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3"/>
          <p:cNvSpPr/>
          <p:nvPr/>
        </p:nvSpPr>
        <p:spPr>
          <a:xfrm>
            <a:off x="965160" y="2917800"/>
            <a:ext cx="68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晴空万里　万里无云　烈日炎炎　鹅毛大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6" descr=""/>
          <p:cNvPicPr/>
          <p:nvPr/>
        </p:nvPicPr>
        <p:blipFill>
          <a:blip r:embed="rId1"/>
          <a:stretch/>
        </p:blipFill>
        <p:spPr>
          <a:xfrm>
            <a:off x="3284640" y="311040"/>
            <a:ext cx="2585880" cy="601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25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6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内容占位符 2"/>
          <p:cNvSpPr/>
          <p:nvPr/>
        </p:nvSpPr>
        <p:spPr>
          <a:xfrm>
            <a:off x="1001880" y="1920960"/>
            <a:ext cx="76644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千纸鹤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仿宋"/>
                <a:ea typeface="仿宋"/>
              </a:rPr>
              <a:t>陈晖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周庆的妈妈来了！”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坐在窗户旁边的赵勇宣布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喧闹的教室立刻安静下来，大家的目光不约而同地投向第二排靠墙的座位。那是周庆的座位，已经空了大半年了。从那天体育课受伤、流血不止起，周庆住进医院就没回来过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1"/>
          <p:cNvSpPr/>
          <p:nvPr/>
        </p:nvSpPr>
        <p:spPr>
          <a:xfrm>
            <a:off x="1149480" y="1179360"/>
            <a:ext cx="7591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医生查出，他得的是白血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星期五下午，全班同学放学后一起去看周庆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眼巴巴等了半天，老师只说了这么一句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小心情沉重地回到家里，全班同学一起去看，肯定是周庆的病情加重了。上次全校为周庆捐款，小小把整个春节得的压岁钱都捐了。钱有什么用呢，一直没有找到可以移植的骨髓。星期五还有三天才到，三天能为周庆做点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电视里在播《人与自然》，一只丹顶鹤优美地从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1"/>
          <p:cNvSpPr/>
          <p:nvPr/>
        </p:nvSpPr>
        <p:spPr>
          <a:xfrm>
            <a:off x="763560" y="1071720"/>
            <a:ext cx="810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面划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千纸鹤！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小记起千纸鹤的传说，有人病了，爱他的人如果为他折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只纸鹤，他的病就会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小倒出了储蓄罐里所有的硬币，她只有这些钱了。楼下开小商店的阿姨数了半天，说小小的钱只够买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张白色复印纸。小小拿了一张，比划了半天，够是够了，折出的纸鹤可能有点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小做完功课，放弃了每天必看的《动画世界》。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1"/>
          <p:cNvSpPr/>
          <p:nvPr/>
        </p:nvSpPr>
        <p:spPr>
          <a:xfrm>
            <a:off x="768240" y="1106640"/>
            <a:ext cx="7878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妈要帮她裁纸，小小不肯，她要一个人为周庆折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只纸鹤。妈妈不再坚持，坐在她身边陪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第一天，折了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239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第二天晚上九点，共折了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587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小折呀折呀，她的胳膊酸得都快要抬不起来了，谁劝她休息都不肯。堆成小山似的纸鹤，随便拿出一只，翅膀、脚、身子、头，每一条线都是笔直的，每一个角都是平整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第三天的晚上，小小更努力了。这是最后一天，嘀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1"/>
          <p:cNvSpPr/>
          <p:nvPr/>
        </p:nvSpPr>
        <p:spPr>
          <a:xfrm>
            <a:off x="824040" y="1033560"/>
            <a:ext cx="759132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钟声催着她，可她实在太累了，她的动作明显地慢了下来，手指也有点不听使唤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妈妈一直守着她，后来爸爸也走了进来。他们注视着一只只在小小手里诞生的纸鹤，诚心诚意地相信它们能够给一个垂危的生命带来希望。快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点了，爸爸妈妈清点了两遍纸鹤的数目，不会错的，小小的手中只剩下了最后一张纸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裁去边角时，小小的手抖了一下，纸鹤头部的锐角戳着了小小食指的指尖，角并不锋利，可是小小的指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906480" y="2381400"/>
            <a:ext cx="771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熟读课文，背诵课文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课文的主要内容。培养学生的阅读能力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1"/>
          <p:cNvSpPr/>
          <p:nvPr/>
        </p:nvSpPr>
        <p:spPr>
          <a:xfrm>
            <a:off x="773280" y="1311120"/>
            <a:ext cx="83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已经磨破。鲜红的血渍印在了纸鹤的头上。当最后这只“丹顶鹤”完成时，小小向闹钟望去，长短针刚好在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2”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那儿重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小把纸鹤全部收进了妈妈早已准备好的塑料袋，那只“丹顶鹤”放在了最上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星期五一放学，小小和老师以及全班同学一起到了医院。透过一层封闭的玻璃墙，他们轮流看周庆。小小踮起脚，看见他躺在那里，全身插满管子，虚弱地向着小小微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1"/>
          <p:cNvSpPr/>
          <p:nvPr/>
        </p:nvSpPr>
        <p:spPr>
          <a:xfrm>
            <a:off x="901800" y="1209600"/>
            <a:ext cx="7824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小把位置让给其他同学，退回来打开她的塑料袋，她要再数一数她的千纸鹤，不是说，折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只纸鹤，病就会好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2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19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20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337……398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565……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开始是小小在数，数着数着，同学们加入了进来，病人家属、医生护士也加入了进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"/>
          <p:cNvSpPr/>
          <p:nvPr/>
        </p:nvSpPr>
        <p:spPr>
          <a:xfrm>
            <a:off x="1006560" y="1179360"/>
            <a:ext cx="7591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999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！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小呆住了，她的口袋已经空了，明明是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 00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只啊，她和爸爸妈妈一起数过好几遍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忽然，小小想起来了，那只“丹顶鹤”呢，放在最上面的“丹顶鹤”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哇──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人大声哭着跑出了医生办公室，是周庆的妈妈，所有的人都看着她，小小的心像是要蹦出来，简直可以听见它“咚咚”跳动的声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"/>
          <p:cNvSpPr/>
          <p:nvPr/>
        </p:nvSpPr>
        <p:spPr>
          <a:xfrm>
            <a:off x="901800" y="1352520"/>
            <a:ext cx="6943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找到了，在台湾骨髓库找到了可以匹配移植的骨髓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小的胸膛被欢乐胀满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的‘丹顶鹤’，你飞到台湾去了吗？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人们都在欢笑，没有人注意小小说什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只温暖的大手握住了小小的小手，轻柔地抚摸她那包着创可贴的手指。小小抬头，她看到了老师微笑的眼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0" descr="https://timgsa.baidu.com/timg?image&amp;quality=80&amp;size=b9999_10000&amp;sec=1495182856116&amp;di=be543ff8bd990e26b97cf1809252f15c&amp;imgtype=0&amp;src=http%3A%2F%2Fimage.chinawriter.com.cn%2F2013%2F0507%2FU3875P843DT20130507092056.jpg"/>
          <p:cNvPicPr/>
          <p:nvPr/>
        </p:nvPicPr>
        <p:blipFill>
          <a:blip r:embed="rId1"/>
          <a:stretch/>
        </p:blipFill>
        <p:spPr>
          <a:xfrm>
            <a:off x="1087560" y="2290680"/>
            <a:ext cx="7253280" cy="3432240"/>
          </a:xfrm>
          <a:prstGeom prst="rect">
            <a:avLst/>
          </a:prstGeom>
          <a:ln w="0">
            <a:noFill/>
          </a:ln>
        </p:spPr>
      </p:pic>
      <p:sp>
        <p:nvSpPr>
          <p:cNvPr id="139" name="矩形 1"/>
          <p:cNvSpPr/>
          <p:nvPr/>
        </p:nvSpPr>
        <p:spPr>
          <a:xfrm>
            <a:off x="1122480" y="2292480"/>
            <a:ext cx="7234200" cy="14961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君子成人之美，不成人之恶，小人反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论语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颜渊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1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2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45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内容占位符 2"/>
          <p:cNvSpPr/>
          <p:nvPr/>
        </p:nvSpPr>
        <p:spPr>
          <a:xfrm>
            <a:off x="1036800" y="2050920"/>
            <a:ext cx="7667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对联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"/>
              </a:rPr>
              <a:t>上联：淡泊明志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"/>
              </a:rPr>
              <a:t>下联：平易近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猜谜语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"/>
              </a:rPr>
              <a:t>平易近人好相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"/>
              </a:rPr>
              <a:t>谜底：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示 1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50" name="矩形 11"/>
          <p:cNvSpPr/>
          <p:nvPr/>
        </p:nvSpPr>
        <p:spPr>
          <a:xfrm>
            <a:off x="1017720" y="292752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者采用了对比的写法，体现了高尔基对下一代的关怀和热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12"/>
          <p:cNvSpPr/>
          <p:nvPr/>
        </p:nvSpPr>
        <p:spPr>
          <a:xfrm>
            <a:off x="825480" y="1743120"/>
            <a:ext cx="75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们分角色读读课文，把对话的不同语气读出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1092240" y="2543040"/>
            <a:ext cx="69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Calibri"/>
              </a:rPr>
              <a:t>教师点拨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本文的主要人物是小男孩和高尔基。分角色朗读时要注意不同人物说话时的语气。</a:t>
            </a:r>
            <a:r>
              <a:rPr b="1" lang="zh-CN" sz="2400" spc="-1" strike="noStrike">
                <a:solidFill>
                  <a:srgbClr val="0033cc"/>
                </a:solidFill>
                <a:latin typeface="Calibri"/>
              </a:rPr>
              <a:t>如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小男孩回答高尔基的问话时要读出崇敬的感情。而高尔基对小男孩说话时的语气则应是充满喜爱和关切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7" descr=""/>
          <p:cNvPicPr/>
          <p:nvPr/>
        </p:nvPicPr>
        <p:blipFill>
          <a:blip r:embed="rId1"/>
          <a:stretch/>
        </p:blipFill>
        <p:spPr>
          <a:xfrm>
            <a:off x="-103320" y="768240"/>
            <a:ext cx="43038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2"/>
          <p:cNvSpPr/>
          <p:nvPr/>
        </p:nvSpPr>
        <p:spPr>
          <a:xfrm>
            <a:off x="825480" y="1316160"/>
            <a:ext cx="75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语文的许多地方可以看出高尔基喜欢小男孩，让我们找出来读一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1251000" y="2498760"/>
            <a:ext cx="7115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Calibri"/>
              </a:rPr>
              <a:t>示例：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(1)“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来吧，我让他们放你进来。”高尔基没有因为小男孩扔纸团而生气，反而立刻答应了他的请求，说明高尔基理解、喜爱小男孩。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(2)“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高尔基走到窗口，大声喊道：‘孩子，回来！我给你胶卷，我这儿有很多胶卷。’”表达了高尔基对小男孩的关切之情。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(3)“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请转告他，我很忙。不过，来的如果是个小男孩，就一定让他进来。”从中可以看出高尔基对小男孩的关爱之情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12"/>
          <p:cNvSpPr/>
          <p:nvPr/>
        </p:nvSpPr>
        <p:spPr>
          <a:xfrm>
            <a:off x="809640" y="1316160"/>
            <a:ext cx="75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想接着往下写这个故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277920" y="2049480"/>
            <a:ext cx="82897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续写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小摄影师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0360" indent="-6303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小男孩跳上电车走了。第二天，他两手空空来到学校。同学们争着要看高尔基的照片，小男孩低着头，小声说道：“我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……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我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……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去给高尔基照相时忘记带胶卷了。”同学们一听都哈哈大笑。有个同学走到小男孩的旁边，怪声怪调地说：“你会不会是骗我们的呀？是不是你不敢去，故意找个借口来骗我们的？”小男孩忍无可忍，扭头就往家里跑。小男孩一口气跑回家，以最快的速度装好胶卷，带好零花钱，背起相机，跳上电车直奔高尔基家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内容占位符 2"/>
          <p:cNvSpPr/>
          <p:nvPr/>
        </p:nvSpPr>
        <p:spPr>
          <a:xfrm>
            <a:off x="782640" y="1897200"/>
            <a:ext cx="7792920" cy="40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哪里可以表现出高尔基对小男孩的关心和爱护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串珠问题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为什么高尔基看了纸条上的内容后同意小男孩进来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小男孩进到高尔基办公室是怎么做的？为什么高尔基听从小男孩的吩咐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小男孩哭着跑出去，高尔基是怎么做的？体现了高尔基的什么品质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高尔基接待一个小男孩而不接待采访他的记者，说明了什么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1"/>
          <p:cNvSpPr/>
          <p:nvPr/>
        </p:nvSpPr>
        <p:spPr>
          <a:xfrm>
            <a:off x="803160" y="1576440"/>
            <a:ext cx="762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小男孩又来到高尔基家门口，正在门口张望的秘书问清楚了，忙请小男孩进去。高尔基看见小男孩走进来，笑着说：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孩子，你是来给我照相的吗？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小男孩忙回答：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是的。请您坐在办公桌前写文章好吗？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高尔基拿起笔坐在办公桌前认真地写起文章来。只听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咔嚓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一声，小男孩把相照好了。小男孩感激地向高尔基告别，然后拿着照相机高高兴兴地走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小男孩把高尔基的照片贴在学校墙报正中的位置上，同学们都围过来看，七嘴八舌地说：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看，高尔基工作多认真啊！”“这个照相的同学真勇敢呀！”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6"/>
          <p:cNvSpPr/>
          <p:nvPr/>
        </p:nvSpPr>
        <p:spPr>
          <a:xfrm>
            <a:off x="-4782960" y="3500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　　　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7"/>
          <p:cNvSpPr/>
          <p:nvPr/>
        </p:nvSpPr>
        <p:spPr>
          <a:xfrm>
            <a:off x="-4972320" y="106200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　　　　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62" name="矩形 21"/>
          <p:cNvSpPr/>
          <p:nvPr/>
        </p:nvSpPr>
        <p:spPr>
          <a:xfrm>
            <a:off x="684360" y="1589040"/>
            <a:ext cx="7775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、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卷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两种读音，把下面的词语分成两组，写在横线上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卷尺　试卷　胶卷　卷土重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花卷　答卷　交卷　手不释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juǎn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juàn_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二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正确的读音或汉字，画上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“√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个阳光明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èi</a:t>
            </a:r>
            <a:r>
              <a:rPr b="1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éi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早晨，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摄　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影师来给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尔基照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相　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见到高尔基后，他有礼貌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向　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高尔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鞠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jū</a:t>
            </a:r>
            <a:r>
              <a:rPr b="1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j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躬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gēn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gōng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22"/>
          <p:cNvSpPr/>
          <p:nvPr/>
        </p:nvSpPr>
        <p:spPr>
          <a:xfrm>
            <a:off x="2124000" y="3029040"/>
            <a:ext cx="36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卷尺　胶卷　卷土重来　花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23"/>
          <p:cNvSpPr/>
          <p:nvPr/>
        </p:nvSpPr>
        <p:spPr>
          <a:xfrm>
            <a:off x="2133720" y="350028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试卷　答卷　交卷　手不释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24"/>
          <p:cNvSpPr/>
          <p:nvPr/>
        </p:nvSpPr>
        <p:spPr>
          <a:xfrm>
            <a:off x="3610440" y="4532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25"/>
          <p:cNvSpPr/>
          <p:nvPr/>
        </p:nvSpPr>
        <p:spPr>
          <a:xfrm>
            <a:off x="6130440" y="4546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26"/>
          <p:cNvSpPr/>
          <p:nvPr/>
        </p:nvSpPr>
        <p:spPr>
          <a:xfrm>
            <a:off x="2293560" y="4994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27"/>
          <p:cNvSpPr/>
          <p:nvPr/>
        </p:nvSpPr>
        <p:spPr>
          <a:xfrm>
            <a:off x="6634440" y="4976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28"/>
          <p:cNvSpPr/>
          <p:nvPr/>
        </p:nvSpPr>
        <p:spPr>
          <a:xfrm>
            <a:off x="1798920" y="5403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方正姚体"/>
                <a:ea typeface="方正姚体"/>
              </a:rPr>
              <a:t>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29"/>
          <p:cNvSpPr/>
          <p:nvPr/>
        </p:nvSpPr>
        <p:spPr>
          <a:xfrm>
            <a:off x="3888360" y="5483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30"/>
          <p:cNvSpPr/>
          <p:nvPr/>
        </p:nvSpPr>
        <p:spPr>
          <a:xfrm>
            <a:off x="3132000" y="4427640"/>
            <a:ext cx="587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31"/>
          <p:cNvSpPr/>
          <p:nvPr/>
        </p:nvSpPr>
        <p:spPr>
          <a:xfrm>
            <a:off x="1258920" y="5373720"/>
            <a:ext cx="587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34"/>
          <p:cNvSpPr/>
          <p:nvPr/>
        </p:nvSpPr>
        <p:spPr>
          <a:xfrm>
            <a:off x="2521080" y="5322960"/>
            <a:ext cx="587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1"/>
          <p:cNvSpPr/>
          <p:nvPr/>
        </p:nvSpPr>
        <p:spPr>
          <a:xfrm>
            <a:off x="611280" y="174132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看拼音写汉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高尔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à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男孩的要求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è shē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坐好，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ǔn bèi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拍照，小男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ǎi nòn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相机很久，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ū rá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现没带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āo juǎ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他一下子哭了起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2"/>
          <p:cNvSpPr/>
          <p:nvPr/>
        </p:nvSpPr>
        <p:spPr>
          <a:xfrm>
            <a:off x="2958840" y="24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3"/>
          <p:cNvSpPr/>
          <p:nvPr/>
        </p:nvSpPr>
        <p:spPr>
          <a:xfrm>
            <a:off x="4281480" y="2390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4"/>
          <p:cNvSpPr/>
          <p:nvPr/>
        </p:nvSpPr>
        <p:spPr>
          <a:xfrm>
            <a:off x="1747440" y="2941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侧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5"/>
          <p:cNvSpPr/>
          <p:nvPr/>
        </p:nvSpPr>
        <p:spPr>
          <a:xfrm>
            <a:off x="5206680" y="2941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6"/>
          <p:cNvSpPr/>
          <p:nvPr/>
        </p:nvSpPr>
        <p:spPr>
          <a:xfrm>
            <a:off x="264780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摆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627048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突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2792160" y="39495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胶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1"/>
          <p:cNvSpPr/>
          <p:nvPr/>
        </p:nvSpPr>
        <p:spPr>
          <a:xfrm>
            <a:off x="684360" y="1557360"/>
            <a:ext cx="806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给加点字选择正确的解释，将序号填在括号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张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靠近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粘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添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两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斜着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旁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突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突起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忽然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猛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2317680" y="22478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3"/>
          <p:cNvSpPr/>
          <p:nvPr/>
        </p:nvSpPr>
        <p:spPr>
          <a:xfrm>
            <a:off x="2337480" y="33116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4"/>
          <p:cNvSpPr/>
          <p:nvPr/>
        </p:nvSpPr>
        <p:spPr>
          <a:xfrm>
            <a:off x="2400840" y="4294080"/>
            <a:ext cx="3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2"/>
          <p:cNvSpPr/>
          <p:nvPr/>
        </p:nvSpPr>
        <p:spPr>
          <a:xfrm>
            <a:off x="538200" y="1841400"/>
            <a:ext cx="821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 照样子，把句子补充完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例：一个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阳光明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早晨，高尔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正在读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一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星期天，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那是一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夜晚，老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3"/>
          <p:cNvSpPr/>
          <p:nvPr/>
        </p:nvSpPr>
        <p:spPr>
          <a:xfrm>
            <a:off x="2206800" y="2989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阴雨绵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5837040" y="2967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在家里写作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5"/>
          <p:cNvSpPr/>
          <p:nvPr/>
        </p:nvSpPr>
        <p:spPr>
          <a:xfrm>
            <a:off x="2926800" y="3568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大雨瓢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6"/>
          <p:cNvSpPr/>
          <p:nvPr/>
        </p:nvSpPr>
        <p:spPr>
          <a:xfrm>
            <a:off x="6056280" y="34243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在灯下批改作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343320" y="28260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5" name="矩形 2"/>
          <p:cNvSpPr/>
          <p:nvPr/>
        </p:nvSpPr>
        <p:spPr>
          <a:xfrm>
            <a:off x="735120" y="15825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他经常坐在窗子旁边工作。一个阳光明媚的早晨，高尔基正在读书，突然，一个小纸团从窗外飞到了桌子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组合 6"/>
          <p:cNvGrpSpPr/>
          <p:nvPr/>
        </p:nvGrpSpPr>
        <p:grpSpPr>
          <a:xfrm>
            <a:off x="873000" y="2927520"/>
            <a:ext cx="7683480" cy="558720"/>
            <a:chOff x="873000" y="2927520"/>
            <a:chExt cx="7683480" cy="558720"/>
          </a:xfrm>
        </p:grpSpPr>
        <p:sp>
          <p:nvSpPr>
            <p:cNvPr id="77" name="直接连接符 7"/>
            <p:cNvSpPr/>
            <p:nvPr/>
          </p:nvSpPr>
          <p:spPr>
            <a:xfrm>
              <a:off x="873000" y="348624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任意多边形 8"/>
            <p:cNvSpPr/>
            <p:nvPr/>
          </p:nvSpPr>
          <p:spPr>
            <a:xfrm>
              <a:off x="873000" y="2927520"/>
              <a:ext cx="7683480" cy="55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从“经常”一词你能体会到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矩形 9"/>
          <p:cNvSpPr/>
          <p:nvPr/>
        </p:nvSpPr>
        <p:spPr>
          <a:xfrm>
            <a:off x="885960" y="3691080"/>
            <a:ext cx="779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正因为高尔基“经常”坐在窗子旁边工作，才可能发现从窗子飞进来的纸团，这样写为下文的展开作了合理的铺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2"/>
          <p:cNvSpPr/>
          <p:nvPr/>
        </p:nvSpPr>
        <p:spPr>
          <a:xfrm>
            <a:off x="735120" y="1165320"/>
            <a:ext cx="7848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高尔基拿了张报纸，按小男孩的</a:t>
            </a:r>
            <a:r>
              <a:rPr b="1" lang="zh-CN" sz="2000" spc="-1" strike="noStrike">
                <a:solidFill>
                  <a:srgbClr val="0033cc"/>
                </a:solidFill>
                <a:latin typeface="楷体"/>
                <a:ea typeface="楷体"/>
              </a:rPr>
              <a:t>吩咐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坐下。小男孩</a:t>
            </a:r>
            <a:r>
              <a:rPr b="1" lang="zh-CN" sz="2000" spc="-1" strike="noStrike">
                <a:solidFill>
                  <a:srgbClr val="0033cc"/>
                </a:solidFill>
                <a:latin typeface="楷体"/>
                <a:ea typeface="楷体"/>
              </a:rPr>
              <a:t>摆弄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了</a:t>
            </a:r>
            <a:r>
              <a:rPr b="1" lang="zh-CN" sz="2000" spc="-1" strike="noStrike">
                <a:solidFill>
                  <a:srgbClr val="0033cc"/>
                </a:solidFill>
                <a:latin typeface="楷体"/>
                <a:ea typeface="楷体"/>
              </a:rPr>
              <a:t>很久很久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，说：“一切准备停当。”高尔基侧过脸，对着他微笑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组合 2"/>
          <p:cNvGrpSpPr/>
          <p:nvPr/>
        </p:nvGrpSpPr>
        <p:grpSpPr>
          <a:xfrm>
            <a:off x="873000" y="2311560"/>
            <a:ext cx="7683480" cy="677880"/>
            <a:chOff x="873000" y="2311560"/>
            <a:chExt cx="7683480" cy="677880"/>
          </a:xfrm>
        </p:grpSpPr>
        <p:sp>
          <p:nvSpPr>
            <p:cNvPr id="82" name="直接连接符 3"/>
            <p:cNvSpPr/>
            <p:nvPr/>
          </p:nvSpPr>
          <p:spPr>
            <a:xfrm>
              <a:off x="873000" y="298944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任意多边形 4"/>
            <p:cNvSpPr/>
            <p:nvPr/>
          </p:nvSpPr>
          <p:spPr>
            <a:xfrm>
              <a:off x="873000" y="2311560"/>
              <a:ext cx="7683480" cy="55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从变色的几个词语中你能体会到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矩形 5"/>
          <p:cNvSpPr/>
          <p:nvPr/>
        </p:nvSpPr>
        <p:spPr>
          <a:xfrm>
            <a:off x="885960" y="3075120"/>
            <a:ext cx="779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吩咐”在这里是指高尔基听从小男孩的摆弄，想让他完成自己的心愿，体现了他的平易近人和对青少年的关心。“摆弄了很久很久”一方面说明小男孩做事认真，他很想给高尔基照一张得意的照片，唯恐哪里出了差错；另一方面也反映出高尔基对小男孩有极大的耐心。“按小男孩的吩咐坐下”“侧过脸”“对着他微笑”这些细节反映出高尔基积极配合孩子的工作，表现了他对下一代的宽厚慈爱和关怀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21"/>
          <p:cNvSpPr/>
          <p:nvPr/>
        </p:nvSpPr>
        <p:spPr>
          <a:xfrm>
            <a:off x="831960" y="963720"/>
            <a:ext cx="7569000" cy="111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品析细节描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23"/>
          <p:cNvSpPr/>
          <p:nvPr/>
        </p:nvSpPr>
        <p:spPr>
          <a:xfrm>
            <a:off x="903240" y="1846440"/>
            <a:ext cx="734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概念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细节描写是指对表现人物和情节发展有特殊作用，包括动作、神情、物件、环境等在内的一些细小的点的细致描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作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更细腻地展示人物的某一特征，使读者觉得真实、自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答题模式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通过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细节描写，反映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品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运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见本课“课后练习单”第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1"/>
          <p:cNvSpPr/>
          <p:nvPr/>
        </p:nvSpPr>
        <p:spPr>
          <a:xfrm>
            <a:off x="1057320" y="3324240"/>
            <a:ext cx="78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来吧，我让他们放你进来。”“高尔基拿了张报纸，按小男孩的吩咐坐下。”“高尔基侧过脸，对着他微笑。”“高尔基赶紧站起来”“高尔基走到窗口，大声喊道：‘孩子，回来！我给你胶卷，我这儿有很多胶卷。’”“来的如果是个小男孩，就一定让他进来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977760" y="2610000"/>
            <a:ext cx="740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哪里可以表现出高尔基对小男孩的关心和爱护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内容占位符 2"/>
          <p:cNvSpPr/>
          <p:nvPr/>
        </p:nvSpPr>
        <p:spPr>
          <a:xfrm>
            <a:off x="851040" y="245412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什么高尔基看了纸条上的内容后同意小男孩进来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1"/>
          <p:cNvSpPr/>
          <p:nvPr/>
        </p:nvSpPr>
        <p:spPr>
          <a:xfrm>
            <a:off x="1197000" y="3209760"/>
            <a:ext cx="72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因为他想满足小男孩的愿望，体现了高尔基对青少年的关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内容占位符 2"/>
          <p:cNvSpPr/>
          <p:nvPr/>
        </p:nvSpPr>
        <p:spPr>
          <a:xfrm>
            <a:off x="635040" y="1733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内容占位符 2"/>
          <p:cNvSpPr/>
          <p:nvPr/>
        </p:nvSpPr>
        <p:spPr>
          <a:xfrm>
            <a:off x="625320" y="1270080"/>
            <a:ext cx="7847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男孩进到高尔基办公室是怎么做的？为什么高尔基听从小男孩的吩咐？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1"/>
          <p:cNvSpPr/>
          <p:nvPr/>
        </p:nvSpPr>
        <p:spPr>
          <a:xfrm>
            <a:off x="960480" y="2462040"/>
            <a:ext cx="74167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他进入办公室后首先仔细打量着高尔基，咧开嘴笑了，然后用手指了指沙发，让高尔基坐在沙发上看报纸。他听从小男孩的吩咐是想让小男孩完成自己的心愿，体现了他的平易近人和对青少年的关心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/>
  <dc:description/>
  <dc:language>en-US</dc:language>
  <cp:lastModifiedBy>Administrator</cp:lastModifiedBy>
  <dcterms:modified xsi:type="dcterms:W3CDTF">2017-12-20T11:14:51Z</dcterms:modified>
  <cp:revision>46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